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732B-929A-4A9E-A70A-C1F184DA1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E4D4-B646-4D96-9950-9C23C0F2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73FB3-F8F7-4EE9-9300-D50C40F6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F44CE-0CB9-4958-A9A1-7EC13B0A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6BDD5-23EB-4BF4-BA01-A0EC2D78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5A075-9358-4DFB-9766-1382B2AA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F8787-7C50-4740-B48D-46BCC993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E1264-5B74-4FB4-9067-38980122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0152D-3491-4E24-A5A3-2F3315D7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C5DCF-D026-4652-978F-1CAD3D79F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ED951B-E79C-45D4-BD6B-6013AA82C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23B1E7-B68C-40CB-9112-BFBBB5F55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4574-CB2B-4EA5-A803-0E5CD92EC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71031F-BB32-4EF8-A980-CF683742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1ACE06-05F6-449F-9D83-021F5D84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95722-4788-438F-B0C4-CD49A3BD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CF0A6-3A60-40B8-9EB2-664C8E71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58846-787A-4575-8887-E3CC9662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FF7A1-7373-4D89-A048-1563BD73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E95EF5-9A9B-479A-8620-DB208B5C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E7795-9339-486F-B41E-E8B19914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95FEF-1246-4AE8-BB70-880367B2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3C2E8-DAC7-4E21-BE7E-11BECC671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4C76-138A-4B51-838B-ADCCEE816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B56731-5619-44F5-AD15-5B88B5789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E1B05-4F1D-4DF9-946B-4D4636B63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F6A38-DE80-47F7-8BE5-39FE17FF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955C6-732F-49E9-A645-F147201A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0B20A-FC89-4038-83EB-4BACED0C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4CE20-293C-4E6A-BD30-E3DC2FB4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E7186-C0E6-44FF-96A4-06988C4E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658EE-5F3C-44DC-A112-3030F04A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EBD13-72E1-42A7-9252-4B5B0024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B64D0-88DC-48D5-A84E-63AC0A9A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9D55-243D-4C6D-BA1B-12AC67964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53096-2F3D-40F7-BF0A-50778CA1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B6A93-0DFB-4BFD-9468-C8345764E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72901-EB30-4B36-9944-1DBC942BD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7B208-A006-49A0-B019-A317FA311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F8F1E8-BD78-4CDE-BB87-B8C93346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221E7F-679B-436D-96E9-FF5F8A48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24E746-00D4-4AE9-B685-E11B1BD4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2FB622-B332-411E-B506-F5ABA68A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0999F3-B19E-4284-A7CC-10812D3A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EA4300-2BB8-4F86-AC80-EB65A10F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F9F2-B4F9-4CB1-A931-F48AD6E0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FD3197-24C5-4B05-B700-8999C3D4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2F2BED-306C-4AAC-8224-896B9D62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3131B0-521F-4217-90A3-96A94AC5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FD320F-54F8-49D0-8418-C996753C1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13C8F3-235B-41CA-8B22-46A47F4ED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84CA15-943B-4744-BEBF-BDF70107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15A39E-5878-44B2-BBE3-A6539048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42F1C5-F997-4703-B744-8A3CB1C0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C4E78B-6D4F-414C-B6A5-A3A284E8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3EEE57-ED3F-40B9-A722-D48B29EC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1893-5A81-4F13-927A-B0B4EA28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CAF5E1-DEF5-4880-8716-6DAE83E4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BB7127-5214-462D-9D91-F323254F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425E4D-5530-4EE3-A00D-45B35DAC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678063-7718-4E44-A647-46B277CA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A92F98-A569-4441-80F7-3DFE9C55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EC1B4D-7567-4353-ACBA-0F5584219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0C81E2-F90E-418C-981D-FBEDD6B30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C16244-0F0F-4D78-923E-4E4B68FF7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D12504-C473-4C16-8962-E4E4C97A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30B317-DF2F-4DD3-BFB4-2BD78AB0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2262-123D-41A6-8C12-D8D70FBE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7544CC-1243-4492-9B61-8E55E283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894E89-AFB8-4952-9765-9DB40B05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6BB33D-7B27-4DD3-B7EF-B476A5C4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F53EB2-DD7E-49DC-BB74-430C3D52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F193C1-7ED5-4293-912E-7DAF6344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38F7C7-7C97-4514-8FFB-0C487659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279AE4-9389-4E51-9705-A2BBFE95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6AE2B6-0296-4D96-9D80-56540A6D1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D85673-4531-4E1C-A21C-3789BA3C9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FB09A7-B5B0-4B98-B0F8-B61C4E3F2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B47F-3BCE-4B8A-9FB8-B06E8F69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39E866-D20D-4B3D-A0C8-4A5A2ECE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01BAFA-3E18-4A4E-8DB1-1679387E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C20677-0339-4532-AA7A-41D445F0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490D38-908F-43AF-9163-D250156B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715B3F-3920-453E-8D5B-5BB1B183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87777B-5B62-4E13-8945-83AE3E13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CB4E2B-6845-4257-AF4F-888A7591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396942-299B-434B-8417-EC8A30CC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27A976-6CCE-48A0-B27F-0E07AF2B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42A1DC-4D6A-45A5-AFC9-3E6533932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4E1E-37E4-4839-9BA9-42D8BD25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D28108-305B-41EA-BBE3-FEC3936E3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1324CD-19D1-4B66-9CA0-3D29BA8EF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774F78-C0C2-421B-B104-C2BCC088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AA6B54-6DDD-429A-80C7-2736F296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AF4C5B-22ED-495C-B53E-6208F050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A0C167-7FF2-4C73-9909-1BDE3190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11684C-F8E3-41C1-967B-3D810ABE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EBC2E3-E62E-4BF9-9F8F-6C6950B8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70B3C3-C00B-4BB3-9A0F-1D50B8ED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EA6803-428C-4EDE-8246-D49D4F34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30B8-574F-4CE5-A0B4-FCA0CABB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D674FE-0176-4C89-8FA2-5804D888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92E6FC-3378-4584-95A4-CBDCE41C6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53D0D9-6374-4C29-93FD-35811673B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D1D353-5D77-40E1-928E-5F11F6CD3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22697C-26F5-49D4-BE97-775D9B73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21CC3B-9FA8-4FF5-A561-1E7A796E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E68C29-AED0-4BE1-A569-6017AADE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97796E-0F12-40A9-ABA0-04C827EE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EC87A3-9CEA-4C75-828A-4FA57826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2913CB-21BC-4B79-9E8B-C12E2D3C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3FAD-74A4-4D1C-9EA1-600B41DC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6E02-D959-4164-BEA1-0E5113B1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D58428-16FF-41E9-BE32-4AA9FDA0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FDD066-ADDF-4217-8777-92E1E48F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E49102-B41A-4CB1-827F-3FEADF75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18328D-B6B4-4082-A07F-0A6819E74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ADA4B0-A770-4319-87AB-76FE82184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1262DA-C9EE-4428-BA85-05D9BA344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96BA1C-77E0-436C-B37A-EAE0F85A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AB54BD-67BA-4749-A9F2-54C00117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FE023B-1FEC-416C-87D4-0FEB6DD4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F78217-19A7-425F-B730-37777CBA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78D6-38C9-4160-8484-E80F4485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9C51FB-CB49-41F5-8B36-2BCC8DCF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6D8601-6D91-42D7-A197-329E3EE1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260D92-CF5B-431B-830C-E60BC64E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4C5D27-A191-47C2-A7E1-DC6F4168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B58902-833F-443E-BF81-2867C64E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754B60-180E-43B4-99EF-89FDC7E77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6D1B53-2D7C-406C-942E-90811B7F2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713C9E-9193-440D-AE68-630E5E785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05421E-BCC6-405B-AF91-57632A34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DCD8BE-7D8D-4130-BDA0-E372BF57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6558-2ABA-4308-A447-2D3675D2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16DDE1-6ADE-4071-84DD-D582DF3F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BB292F-BB06-4E8C-9B2F-79DA2C68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7F940D-C7EA-403C-9312-7EC5ED63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209983-4702-440B-9F44-F49FDCBE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073BA3-BC60-4EB6-BF8E-1B611FEC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CDC227-825C-4D8D-837C-26AA46E3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639712-6021-4B86-84C6-5472E5CD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20EC76-4F68-4430-AF2E-AEFC1B335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9FBAFB-ECF7-4919-821A-C7F029138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97F305-9D53-4902-82D8-81EDC4009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26DE-B841-4BD4-AE69-52327DA81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75EC3C-9928-4A0A-B886-C69BBE33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016EE7-2036-4E10-8BF1-C5FD6A8F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18F22A-2760-4E10-BD31-8FC1F7E9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DDC2B4-7A8F-4FBF-B509-4D926836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CF8390-6240-4EAA-B71B-67DAA6FA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FFC70A-7FE7-4785-AB05-FCBAAF15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CA76A6-44E9-45AC-970D-48F4043C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9906D0-8920-486B-B8C8-1BFFBEB7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80845A-0F59-4CF8-86C8-B5C27B63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05ED66-C139-40DA-B426-F6D4418CB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3168-F911-48F1-83CC-F10CD7E0C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789D6F-44FE-4701-89FB-9B2874244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D44BEC-B585-42BF-A4CB-188CF65B4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68DA36-024E-40BD-B220-05E7AE4E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5E8331-C054-4F7C-98DC-2C4E08A1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8A92E8-5F80-4F2B-83AB-48A4E55E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BFFCB3-5DD9-4C32-BD5F-6D416A16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8CEEB1-1C89-42CE-8864-A8318C77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17947D-2D49-4831-AACB-25E1C9CE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8BF260-2490-4F95-B43D-FE1E83A4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57B5A1-9D72-4336-83EE-7C94BF76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03E7F-A498-4CAC-8934-802F48196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E783F2-3E85-45D3-B391-A55494F8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D2B9FF-E825-43C1-88F4-255EEF35C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2D8CB9-329D-4D4C-93B1-3A444B35C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D71481-C16B-4B1D-87EB-48DCCDED3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30409F-695B-4003-A607-790EC917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589D4D-E9FE-487F-A8F1-735C0F8B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005250-BAED-45AF-8412-5406AF5A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A76CD8-4D0C-48C4-8E95-9B0FB6CB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181D5B-84CA-4FE7-965A-D1F8CC19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13E4CB-96A7-4139-A307-547FB963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68A69-EA81-4166-847C-0F6AC5AB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3B14A4-523A-46E9-AC24-0B4E975F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18AF15-F9E1-4E22-944E-CE1CF669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CA07B0-9438-4263-9030-58F82512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9C3663-4B49-438E-BE48-74DE57D7C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0365C6-76F4-4BF1-A9BF-3B5150DEE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565249-EF53-43AD-95AC-ECC28408E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43FDE7-0309-491F-832B-B3832E76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1ECF25-B3F7-421C-87C2-2BEEF72F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77C8E5-1B99-446E-B165-A2F849F1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B9F8ED-5A2B-406B-B51E-1F2FB572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74280-5A45-42A5-9243-CF35B663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044191-B429-4CB8-9E3B-8E960927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BD9216-CD0F-4CCE-A481-38D0F217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C2D2EB-DCA6-4408-A6B2-86EE2433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7C48E9-8C13-4059-AB0F-236A393C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787591-E535-42D2-8967-BACAA6C0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48419D-0982-463F-833F-D3DFDF371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4E93F2-1E99-4126-BE69-5A5DFCBBB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C8B3D-7339-42F7-B4A7-762755AF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79FC9-8ECD-415C-BC04-C0ACE76B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30D3-07B0-4440-AC3B-D60A3BA4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B5A23-41FD-4264-8A94-4A2C758D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64BE2-22BB-4A3D-84D7-F1DDC396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C0DE2-663A-4EB7-A869-BEA9A4F7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25C44-736B-4BA6-9B21-3962F6CB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E6F3D-A623-4D9A-B554-39123A5A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FEE4D-98B3-416F-8C1D-F26378410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1065F-F727-450B-AF6C-6793C0D78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0F65F-36FC-4F17-AB60-F3660D31B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93607-1BA2-434F-A23C-77955F67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B88F0-6AB5-409A-9BDC-BFFB7432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755C-6059-4C43-B6CC-E24EA43B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93079-3C74-4668-ACC2-3132CB12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5F810-5C7F-4752-B383-60B68578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022EA-69E0-46C7-8DC4-056E0EB4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36B62-2571-434D-8764-CB564C15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34265-6BCA-4D21-922E-2376A448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F6C41-87F5-4896-8EF7-CB6620D1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98E7B-E65C-4098-A1D3-F7AA33B2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D8075-FB7C-409D-8D15-F20ABA237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C0B18-C363-4D55-A378-F74583F84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80D01-FA0D-468F-86C3-D882B708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B89D-4D9B-482D-827F-E30DA7E3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D27F8-08C9-40C3-A1A2-87617042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DC9CD-0471-4F0B-9F07-807FB630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65BC1-30EB-4926-A9EC-A03E33A4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0BDA1-1142-40BE-8322-1FE740A3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84D9A-C783-48B1-9E07-A7CD84C4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70EB1-CE5D-4767-BCDA-56E1F3BA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1DEC5-9936-46AA-A177-CD121B4D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778F4-5679-4B2B-81A9-3193D459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7C821-C2FA-4A6A-99A4-64BBEA57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0F9E0-A54F-4D29-8180-57C716F4D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E1C2-8642-4433-A6E1-433832BF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01388-D39B-474E-BC0D-BEB382139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277B6-62B6-4AAF-89D2-B93C780B0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73424-3BBF-468F-8AB0-52CDC4BB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B4A41-AF02-4A50-82E3-DB669852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CA69E-8005-4865-8D7F-884A0B16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E8925-8DEC-4892-A88D-E3565289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687D3-03E7-4111-AE47-B2CBE7B1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B1EE2-99A9-4FF7-9A29-604E6F7F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EF690-D0D3-4D2B-A2B8-CA08DCF1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D95EF-85CD-49FE-A8CC-56EE5EB6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7497-183D-496E-A595-9552490C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12066-F973-41E3-810E-1A5B3AFA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A8D8E-60F4-487D-93DF-E709C9988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98B27-4783-42CA-BF7D-FA5DB6084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B96AF-B57C-4D70-805F-459C25408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951B4-7927-4C11-B43F-EF2043C1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047DF-F113-4EE7-A561-B605D840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6FB3A-343A-499A-A649-60297DA6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053EC-7767-4467-B3E8-1027DA1A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96C4F-03FB-498C-80F1-CB9D1523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F6B54-90FD-4E58-8D71-E5DB6592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F505-6277-487C-812E-F2EEB0FC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0E295-8EC4-42CF-AD82-42BA6C08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0DE56-15C2-44F2-8491-7C427F29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109C9-4FEB-4B44-964E-31CFE193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0DE2A-66B6-445F-B53F-189110E4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87401-5E17-469C-8692-86D2FB3DC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82E06-DE05-438A-B41A-F14ED81B6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85D8B-A1FB-4846-AADC-BAEC752E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60F92-BBF9-4A6B-BFA4-B444297A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98C86-7A5E-4D64-BC41-C0FD9178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F2DFA-98C8-4393-97C2-471A8FC9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7B6C-8690-4ED7-838A-57A38F5A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1EE8C-B939-4062-8E2C-D3C1413C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0A828-DFC7-42F1-9D91-0867372E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D90C0-6499-44AE-96E8-EB505D9F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C743B-E4FE-43B9-9AF3-47C1AF63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76736-38B0-4A3E-A8E8-8E8BF4E2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4B532-3036-456F-BD02-DA37C043D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1E1CA-C10A-47FC-AF5E-80BADE8AA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A2C77-A922-4F86-AE0E-B3EB7990C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BA46F4-BCD6-4499-92C7-4DA4E168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CB4CF-58D2-4A04-AA65-8CD619F4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F5AA-753C-4B0A-8E8E-C762B15864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202A-716C-4D5C-A08D-FE86E2CE83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2209-7EEE-4486-BC5D-78681D56B0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7D1B-68B9-4E3E-956C-98C5A1F526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2D12-0530-4F91-979F-C4E1A58519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E456-5156-452E-8437-BBD7616315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DCD5-5303-4135-9131-58A110190A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D3D6-D576-4970-9D96-3064832CD8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60FD-A745-4A77-8399-764410A376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39BF-EF15-446E-BA2E-890EC2218D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2EDC-C5C4-4656-8702-AA4516BF2E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2B2A-36C7-4823-BBA0-5EC90469F4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3F5F-BB6F-403A-BE32-9AA5136836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1DAC-332E-417E-AF1F-9D49F40310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9467-2648-4A20-AA73-58A1FEFD25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4F1E-81DE-419E-9E69-15322C316E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976D-AFE9-4974-A732-95BE2F39AB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F284-DED2-4A85-BB29-3E04447551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4D7F-F928-4794-94B5-06595A1D91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AA61-3A06-4AE9-9066-CA5A5C0896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A117-6867-4E52-A90A-461D535727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4A7A-4038-44B6-A848-1B08DFD301D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C390-57AF-406D-8DDD-A353D1F05E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05D0-1703-44F2-9E68-A382878A34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F00E-D33B-4A83-B357-3839E48721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A47F-A6FA-49A1-9F8F-F5CB65C923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B41E-EA9A-49D4-B5CA-6D2BD39192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8083-6545-4D81-B94A-93F013694E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F06C-2018-4FAB-9CCB-3C203D6FCA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A3F2-8F67-4CB0-8B01-24E0440F4B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1FD4-568B-435D-AAEF-9A172A794F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25E6-6106-4210-8D62-06D415327B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CAEF-BC32-4F59-AFA5-345580FFEB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09CC-F9F0-46A9-9285-82235EFFF6A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7F8E-07DA-48F3-825E-2C27CA4533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B1C4-32A6-4D3D-BE9A-3C89F32868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171E-86AC-4871-96B9-D6F33A69C8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116F-5785-4E94-BB14-DB657E9335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C8E6-1966-4B7B-AD06-FBD497A928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BCB4-957A-471B-8053-9ECC70C938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36ED-0332-48A7-8FA9-3EF16E2AC0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2554-E9C1-4A8F-A3E9-03F47BF071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1228680" y="3043080"/>
            <a:ext cx="6686640" cy="7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图片 1" descr=""/>
          <p:cNvPicPr/>
          <p:nvPr/>
        </p:nvPicPr>
        <p:blipFill>
          <a:blip r:embed="rId1"/>
          <a:stretch/>
        </p:blipFill>
        <p:spPr>
          <a:xfrm>
            <a:off x="204840" y="1866960"/>
            <a:ext cx="8732880" cy="31240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2"/>
          <a:stretch/>
        </p:blipFill>
        <p:spPr>
          <a:xfrm>
            <a:off x="755640" y="2421000"/>
            <a:ext cx="6912000" cy="40644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" descr=""/>
          <p:cNvPicPr/>
          <p:nvPr/>
        </p:nvPicPr>
        <p:blipFill>
          <a:blip r:embed="rId3"/>
          <a:stretch/>
        </p:blipFill>
        <p:spPr>
          <a:xfrm>
            <a:off x="684360" y="3459240"/>
            <a:ext cx="6912000" cy="4064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4"/>
          <a:stretch/>
        </p:blipFill>
        <p:spPr>
          <a:xfrm>
            <a:off x="684360" y="4494240"/>
            <a:ext cx="691200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1" name="图片 1" descr=""/>
          <p:cNvPicPr/>
          <p:nvPr/>
        </p:nvPicPr>
        <p:blipFill>
          <a:blip r:embed="rId1"/>
          <a:stretch/>
        </p:blipFill>
        <p:spPr>
          <a:xfrm>
            <a:off x="274680" y="849240"/>
            <a:ext cx="8685000" cy="564696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" descr=""/>
          <p:cNvPicPr/>
          <p:nvPr/>
        </p:nvPicPr>
        <p:blipFill>
          <a:blip r:embed="rId2"/>
          <a:stretch/>
        </p:blipFill>
        <p:spPr>
          <a:xfrm>
            <a:off x="5940360" y="1930320"/>
            <a:ext cx="1008000" cy="40644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" descr=""/>
          <p:cNvPicPr/>
          <p:nvPr/>
        </p:nvPicPr>
        <p:blipFill>
          <a:blip r:embed="rId3"/>
          <a:stretch/>
        </p:blipFill>
        <p:spPr>
          <a:xfrm>
            <a:off x="5580000" y="2435400"/>
            <a:ext cx="1584360" cy="40608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" descr=""/>
          <p:cNvPicPr/>
          <p:nvPr/>
        </p:nvPicPr>
        <p:blipFill>
          <a:blip r:embed="rId4"/>
          <a:stretch/>
        </p:blipFill>
        <p:spPr>
          <a:xfrm>
            <a:off x="7626240" y="2952720"/>
            <a:ext cx="1446480" cy="40644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" descr=""/>
          <p:cNvPicPr/>
          <p:nvPr/>
        </p:nvPicPr>
        <p:blipFill>
          <a:blip r:embed="rId5"/>
          <a:stretch/>
        </p:blipFill>
        <p:spPr>
          <a:xfrm>
            <a:off x="250920" y="3486240"/>
            <a:ext cx="1195200" cy="40644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" descr=""/>
          <p:cNvPicPr/>
          <p:nvPr/>
        </p:nvPicPr>
        <p:blipFill>
          <a:blip r:embed="rId6"/>
          <a:stretch/>
        </p:blipFill>
        <p:spPr>
          <a:xfrm>
            <a:off x="3348000" y="3500280"/>
            <a:ext cx="1800360" cy="40644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" descr=""/>
          <p:cNvPicPr/>
          <p:nvPr/>
        </p:nvPicPr>
        <p:blipFill>
          <a:blip r:embed="rId7"/>
          <a:stretch/>
        </p:blipFill>
        <p:spPr>
          <a:xfrm>
            <a:off x="971640" y="4019400"/>
            <a:ext cx="1079280" cy="40644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" descr=""/>
          <p:cNvPicPr/>
          <p:nvPr/>
        </p:nvPicPr>
        <p:blipFill>
          <a:blip r:embed="rId8"/>
          <a:stretch/>
        </p:blipFill>
        <p:spPr>
          <a:xfrm>
            <a:off x="4284720" y="4522680"/>
            <a:ext cx="1511280" cy="40644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" descr=""/>
          <p:cNvPicPr/>
          <p:nvPr/>
        </p:nvPicPr>
        <p:blipFill>
          <a:blip r:embed="rId9"/>
          <a:stretch/>
        </p:blipFill>
        <p:spPr>
          <a:xfrm>
            <a:off x="2124000" y="5057640"/>
            <a:ext cx="1511280" cy="40644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1" descr=""/>
          <p:cNvPicPr/>
          <p:nvPr/>
        </p:nvPicPr>
        <p:blipFill>
          <a:blip r:embed="rId10"/>
          <a:stretch/>
        </p:blipFill>
        <p:spPr>
          <a:xfrm>
            <a:off x="7854840" y="5057640"/>
            <a:ext cx="1008000" cy="40644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1" descr=""/>
          <p:cNvPicPr/>
          <p:nvPr/>
        </p:nvPicPr>
        <p:blipFill>
          <a:blip r:embed="rId11"/>
          <a:stretch/>
        </p:blipFill>
        <p:spPr>
          <a:xfrm>
            <a:off x="250920" y="5576760"/>
            <a:ext cx="757080" cy="40644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1" descr=""/>
          <p:cNvPicPr/>
          <p:nvPr/>
        </p:nvPicPr>
        <p:blipFill>
          <a:blip r:embed="rId12"/>
          <a:stretch/>
        </p:blipFill>
        <p:spPr>
          <a:xfrm>
            <a:off x="3492360" y="5576760"/>
            <a:ext cx="100836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图片 1" descr=""/>
          <p:cNvPicPr/>
          <p:nvPr/>
        </p:nvPicPr>
        <p:blipFill>
          <a:blip r:embed="rId1"/>
          <a:stretch/>
        </p:blipFill>
        <p:spPr>
          <a:xfrm>
            <a:off x="214200" y="1309680"/>
            <a:ext cx="8713800" cy="423864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1" descr=""/>
          <p:cNvPicPr/>
          <p:nvPr/>
        </p:nvPicPr>
        <p:blipFill>
          <a:blip r:embed="rId2"/>
          <a:stretch/>
        </p:blipFill>
        <p:spPr>
          <a:xfrm>
            <a:off x="5292720" y="1887480"/>
            <a:ext cx="1008000" cy="40644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1" descr=""/>
          <p:cNvPicPr/>
          <p:nvPr/>
        </p:nvPicPr>
        <p:blipFill>
          <a:blip r:embed="rId3"/>
          <a:stretch/>
        </p:blipFill>
        <p:spPr>
          <a:xfrm>
            <a:off x="4211640" y="2421000"/>
            <a:ext cx="1008000" cy="40644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1" descr=""/>
          <p:cNvPicPr/>
          <p:nvPr/>
        </p:nvPicPr>
        <p:blipFill>
          <a:blip r:embed="rId4"/>
          <a:stretch/>
        </p:blipFill>
        <p:spPr>
          <a:xfrm>
            <a:off x="3780000" y="2924280"/>
            <a:ext cx="1439640" cy="40644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1" descr=""/>
          <p:cNvPicPr/>
          <p:nvPr/>
        </p:nvPicPr>
        <p:blipFill>
          <a:blip r:embed="rId5"/>
          <a:stretch/>
        </p:blipFill>
        <p:spPr>
          <a:xfrm>
            <a:off x="4140360" y="3457440"/>
            <a:ext cx="1439640" cy="406440"/>
          </a:xfrm>
          <a:prstGeom prst="rect">
            <a:avLst/>
          </a:prstGeom>
          <a:ln w="0">
            <a:noFill/>
          </a:ln>
        </p:spPr>
      </p:pic>
      <p:pic>
        <p:nvPicPr>
          <p:cNvPr id="1158" name="Picture 1" descr=""/>
          <p:cNvPicPr/>
          <p:nvPr/>
        </p:nvPicPr>
        <p:blipFill>
          <a:blip r:embed="rId6"/>
          <a:stretch/>
        </p:blipFill>
        <p:spPr>
          <a:xfrm>
            <a:off x="1258920" y="3948120"/>
            <a:ext cx="1440000" cy="406440"/>
          </a:xfrm>
          <a:prstGeom prst="rect">
            <a:avLst/>
          </a:prstGeom>
          <a:ln w="0">
            <a:noFill/>
          </a:ln>
        </p:spPr>
      </p:pic>
      <p:pic>
        <p:nvPicPr>
          <p:cNvPr id="1159" name="Picture 1" descr=""/>
          <p:cNvPicPr/>
          <p:nvPr/>
        </p:nvPicPr>
        <p:blipFill>
          <a:blip r:embed="rId7"/>
          <a:stretch/>
        </p:blipFill>
        <p:spPr>
          <a:xfrm>
            <a:off x="1116000" y="4479840"/>
            <a:ext cx="201600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228600" y="1343160"/>
            <a:ext cx="8686800" cy="417168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498240" cy="40608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3"/>
          <a:stretch/>
        </p:blipFill>
        <p:spPr>
          <a:xfrm>
            <a:off x="611280" y="3429000"/>
            <a:ext cx="4982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图片 1" descr=""/>
          <p:cNvPicPr/>
          <p:nvPr/>
        </p:nvPicPr>
        <p:blipFill>
          <a:blip r:embed="rId1"/>
          <a:stretch/>
        </p:blipFill>
        <p:spPr>
          <a:xfrm>
            <a:off x="247680" y="1128600"/>
            <a:ext cx="8648640" cy="460080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498240" cy="40644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3"/>
          <a:stretch/>
        </p:blipFill>
        <p:spPr>
          <a:xfrm>
            <a:off x="611280" y="3198960"/>
            <a:ext cx="498240" cy="40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图片 1" descr=""/>
          <p:cNvPicPr/>
          <p:nvPr/>
        </p:nvPicPr>
        <p:blipFill>
          <a:blip r:embed="rId1"/>
          <a:stretch/>
        </p:blipFill>
        <p:spPr>
          <a:xfrm>
            <a:off x="252360" y="2395440"/>
            <a:ext cx="8637480" cy="206712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2"/>
          <a:stretch/>
        </p:blipFill>
        <p:spPr>
          <a:xfrm>
            <a:off x="539640" y="2421000"/>
            <a:ext cx="49860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图片 1" descr=""/>
          <p:cNvPicPr/>
          <p:nvPr/>
        </p:nvPicPr>
        <p:blipFill>
          <a:blip r:embed="rId1"/>
          <a:stretch/>
        </p:blipFill>
        <p:spPr>
          <a:xfrm>
            <a:off x="214200" y="880920"/>
            <a:ext cx="8713800" cy="509616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2"/>
          <a:stretch/>
        </p:blipFill>
        <p:spPr>
          <a:xfrm>
            <a:off x="2916360" y="1441440"/>
            <a:ext cx="863640" cy="40644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3"/>
          <a:stretch/>
        </p:blipFill>
        <p:spPr>
          <a:xfrm>
            <a:off x="3708360" y="2463840"/>
            <a:ext cx="1295280" cy="40644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4"/>
          <a:stretch/>
        </p:blipFill>
        <p:spPr>
          <a:xfrm>
            <a:off x="1403280" y="2995560"/>
            <a:ext cx="1584360" cy="40644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5"/>
          <a:stretch/>
        </p:blipFill>
        <p:spPr>
          <a:xfrm>
            <a:off x="4643280" y="4033800"/>
            <a:ext cx="1584360" cy="40644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6"/>
          <a:stretch/>
        </p:blipFill>
        <p:spPr>
          <a:xfrm>
            <a:off x="3059280" y="5084640"/>
            <a:ext cx="115236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1" descr=""/>
          <p:cNvPicPr/>
          <p:nvPr/>
        </p:nvPicPr>
        <p:blipFill>
          <a:blip r:embed="rId1"/>
          <a:stretch/>
        </p:blipFill>
        <p:spPr>
          <a:xfrm>
            <a:off x="838080" y="849240"/>
            <a:ext cx="7467840" cy="567540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2"/>
          <a:stretch/>
        </p:blipFill>
        <p:spPr>
          <a:xfrm>
            <a:off x="2050920" y="2406600"/>
            <a:ext cx="1008360" cy="40644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3"/>
          <a:stretch/>
        </p:blipFill>
        <p:spPr>
          <a:xfrm>
            <a:off x="4788000" y="2406600"/>
            <a:ext cx="1008000" cy="40644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4"/>
          <a:stretch/>
        </p:blipFill>
        <p:spPr>
          <a:xfrm>
            <a:off x="2050920" y="2924280"/>
            <a:ext cx="1657440" cy="40644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5"/>
          <a:stretch/>
        </p:blipFill>
        <p:spPr>
          <a:xfrm>
            <a:off x="6156360" y="2924280"/>
            <a:ext cx="1511280" cy="40644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6"/>
          <a:stretch/>
        </p:blipFill>
        <p:spPr>
          <a:xfrm>
            <a:off x="1619280" y="3962520"/>
            <a:ext cx="2952720" cy="40644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7"/>
          <a:stretch/>
        </p:blipFill>
        <p:spPr>
          <a:xfrm>
            <a:off x="6443640" y="3948120"/>
            <a:ext cx="1297080" cy="40644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8"/>
          <a:stretch/>
        </p:blipFill>
        <p:spPr>
          <a:xfrm>
            <a:off x="1979640" y="5516640"/>
            <a:ext cx="3456000" cy="4064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9"/>
          <a:stretch/>
        </p:blipFill>
        <p:spPr>
          <a:xfrm>
            <a:off x="2843280" y="6064200"/>
            <a:ext cx="12970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图片 1" descr=""/>
          <p:cNvPicPr/>
          <p:nvPr/>
        </p:nvPicPr>
        <p:blipFill>
          <a:blip r:embed="rId1"/>
          <a:stretch/>
        </p:blipFill>
        <p:spPr>
          <a:xfrm>
            <a:off x="590400" y="2376360"/>
            <a:ext cx="7963200" cy="210528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2"/>
          <a:stretch/>
        </p:blipFill>
        <p:spPr>
          <a:xfrm>
            <a:off x="2268360" y="2909880"/>
            <a:ext cx="3095640" cy="40644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3"/>
          <a:stretch/>
        </p:blipFill>
        <p:spPr>
          <a:xfrm>
            <a:off x="3564000" y="3933720"/>
            <a:ext cx="37447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3" name="图片 1" descr=""/>
          <p:cNvPicPr/>
          <p:nvPr/>
        </p:nvPicPr>
        <p:blipFill>
          <a:blip r:embed="rId1"/>
          <a:stretch/>
        </p:blipFill>
        <p:spPr>
          <a:xfrm>
            <a:off x="239760" y="595440"/>
            <a:ext cx="879948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图片 1" descr=""/>
          <p:cNvPicPr/>
          <p:nvPr/>
        </p:nvPicPr>
        <p:blipFill>
          <a:blip r:embed="rId1"/>
          <a:stretch/>
        </p:blipFill>
        <p:spPr>
          <a:xfrm>
            <a:off x="162000" y="1362240"/>
            <a:ext cx="8820000" cy="41335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2"/>
          <a:stretch/>
        </p:blipFill>
        <p:spPr>
          <a:xfrm>
            <a:off x="900000" y="3948120"/>
            <a:ext cx="7559640" cy="40644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3"/>
          <a:stretch/>
        </p:blipFill>
        <p:spPr>
          <a:xfrm>
            <a:off x="900000" y="4998960"/>
            <a:ext cx="75596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19:43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